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B861-C6ED-430E-98B4-56DEEBE1B61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51B5-AB9A-460D-8DFF-EDD96C44D4C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114F-34EA-4304-A3A6-4E4990946E4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2C1C-A07A-4977-8260-A380B809FA2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ECE5-4E76-45CE-AB25-C0B26FB6E68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EB37-E25D-419A-9515-91CBADF607A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9CDE-E320-4CE1-898B-3F0C60D9304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F412-E237-490D-8691-AEFD11CB827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0FA0-965F-47F4-92BB-393C0089D5C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2184-D1B3-47B6-8769-EA7461320CE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5D8D-F065-47E1-885E-8C8652504D2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4D31-D96C-4458-8FDD-AA98A6448F3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DE31-C4AB-46B1-A53C-26E4C0F6E0D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BC6CA3-823C-4F3D-BE0B-FD87234AC5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347BD6-DBC7-48DC-A613-42C5D61F58F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772E0C-F7EE-492A-930F-F0F59DBDC84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F80DE1-E6BA-47CD-957C-4609FAEEFCD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499EEE-A3CD-4F02-A581-0393BA2EE49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B1155D-AA38-4862-968F-A3DDF252DB9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41C496-5F1D-45F4-A0CC-97D9638B7A9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0354CB-2233-4B57-BA60-270836A6589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1C9A96-2926-4B22-B862-7217261D48A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8BA193-55F0-460E-8D21-F08EAC65459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A855FF-E0C2-45A0-A7A7-4E910DC2D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23D124-3E6A-48D5-93CD-2B4FB28C003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B534C-2DE9-4D66-81CE-9E12CBE24BC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ECBDCD-DB6F-46ED-BEDE-D0D8032C949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C293D0-D8EA-44DA-9895-CE0F8E90BF0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69EEED-ED83-4E59-BB96-F475C717CDC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3B021C-41E9-48F0-8F46-78DC801C088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30029-6A26-4CC2-80FB-9472F855EED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8926B-9347-4CF0-9235-A88656670BD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E5E9E3-4A64-4F20-AD7C-BB96D6052E5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10F1E-A913-4169-A3FC-76475E1434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69D3-58A7-4960-A248-EB32DEC25BC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F86E8-4BFB-467E-9CF5-F295744E2C1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9393C5-E846-4D04-AA63-7BFF3CE9ECF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955F5-2B12-4E94-9E75-E26838209CE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06FBB-6755-4130-8A98-198502A61FA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B5A16-CBFF-4FCA-A773-B41AC201FB5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8D9A5-1AA5-4FE7-8574-F10E2DB922D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538CC-1D41-412F-8FA6-01E6AE25CF6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670B5-6B8A-4183-A738-7D261B572F1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20B01-E7FB-4FDE-8412-B78F3A26756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F4675-B8E9-4FBA-BE1B-C3DDB785D9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58FBC-AFEF-4EF3-AA19-76FE65AEEC8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FE7B5-FF93-4691-BCBD-EFA7345660F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3C7BC-CF7A-43CB-B1CE-E515F4FCF4A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A065D-48A4-4AF5-8C9E-D4A2A16E4D0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85244-38A5-4345-8FF0-D3BB95407E9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5D8E0-D105-4669-AC04-6D6ECCFA0C3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4577CD-3C25-4709-B5C2-4697499DAB5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92F274-388C-476F-A516-BF1493CAD0A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526949-7EBC-4EAE-BEF3-68F9D5CE91F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F113CB-D7CC-46E5-9233-A8A6004036A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4E7FE8-E273-44B7-8E9F-30A7C57CAA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87085-53B0-4548-B660-41ABF2460E0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74526F-20CA-428C-A3C6-742126694D4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53DAEE-6399-4ABE-A615-B8F8235D98A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4396F9-5841-4B05-8229-1B371A4F8D6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6B6427-C9F0-4308-B378-60BA8A8131B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4D6380-B61E-490E-9179-8A4BAF98611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985CA5-C430-471E-B0F0-0C341FC080D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241C63-C87D-4F30-A4C4-592EB69AADB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DB052B-300B-4FA9-8D89-5176C098A4B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6E5B11-E5FD-4340-9EF5-34090AB1CFF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079781-1AAB-4993-9CDC-0025566EB7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97F1A-F8B0-42D8-8722-66229AEEB02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F998EE-B16A-4EAF-A1A4-FD71C65376E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0C29B7-C585-4BFD-8F76-59759445F9C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DB64F5-DEC3-4A80-8958-681064E8817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E49EC1-E951-4301-8FCF-26CC6FC2FB1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C49F29-0E22-4AD0-84B9-5A7E7905170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361DB6-2272-403C-9C6C-265BBA34118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B06837-8B9E-48D4-9185-91760ADA777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CEAE55-134E-4F45-9319-E3D1F4E9C88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44A9BF-80E1-4B85-9F78-756FABBFA1F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0A511-226E-4D30-908F-EC605C36CF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0F84E-0F64-4C57-87C0-73819FB0DBE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690B7-C867-4232-9BAA-347522E4467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287F4-C0EE-4147-B01B-8EADA54BBDB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084A3-F3B3-4D3D-A7A9-922ED5039F0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5787B-1D2B-4EBD-A3BE-8F191746DD6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4B1EB-ADEF-4FD1-BED1-8F6C99902DC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668BC-9470-4A43-B48B-4C02FF899FC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5617E-35C3-4EA5-9E22-95058411F20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5FDF3-68D5-488A-88A1-1DF1FE07C4B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8DC7F-D933-4A2C-BFCF-43B55547AA5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2F102-1C03-4E94-950D-DF484EEB49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DC480-2DAC-488F-BEFD-4A9AD762ED1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1EF73-88B3-4614-9A0E-24E2A8A84BA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73E2A1-689F-49D0-BB0B-329DDB3FD46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1E23BF-EABF-40B7-AA38-D06D9CF927C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7AB2E8-F8BD-4FB5-8BB4-BD9562B69AD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5EE01B-AF78-418E-9DAC-A5A095737DD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ECBB0B-EACB-411D-8869-6FD6A895447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9B75D3-3649-4E99-90AC-8E04C7E951C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0E89F6-8A4A-40B0-A8A5-1C658B1C2F1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630DA9-BEF6-4DA3-ADFA-BDF806A4564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66198A-6C62-445F-AA6E-47892840D3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8DEBC-C757-4161-A948-D709914CB89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E5F480-9B78-4947-944B-1121E54DDA3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4D839A-C54E-4284-A8E7-D3B4AC03C49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8D0ACC-96BA-4620-A47D-C3D40B1A555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C2416A-550E-4E5E-9600-D4BD9A25F10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07E8F0-316A-4CF6-8613-445285616F7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D55EF0-0722-42DF-B516-A44D50DBE83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8E738A-6255-4FCA-B934-020E877D47C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537165-556A-4FFD-A298-2E85C63A3DD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D0C2F5-B4CF-4329-92D3-4443866162A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7CCBB9-7E35-4EE9-90D7-EA6AB4E396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D97D-E171-4D6C-BF4C-525A1D333E7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21F2B7-A875-4B01-A1B1-CA215E8FEE0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B2D156-4F16-4A28-84EC-1A78875C070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E91286-11D1-4D91-B84A-D8C33844DC9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98B7D5-66A8-4802-932D-29A310F1883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D1C42C-2F4F-4ABE-B978-0BF79A8348A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83BFF-11E0-474A-9F00-B96D8809D4DE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665AC-A0C3-445B-B750-BDD3FAB31A9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BC33C-B642-4371-B7C4-2F1CE2F73A0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EA260-A13C-480F-B311-371E74A3E22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837D1-5F23-46F7-945D-275639C052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4B7A4-E8B6-4ABE-82E4-D1878EDBC7D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435BA-F42F-4991-B952-345629554AB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40647-BDCF-4635-A1D5-A86C20EB1BA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72914-568D-4EB8-A93D-DDB3A4DB7BA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B4640-592C-4128-B0DF-E70A09629C8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80837-4607-4FE2-8A6C-A2CD1B15FFA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357B8-14ED-4337-AD42-660D423A9C0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C1020-02C4-46DF-9D9F-55BEF0D25CA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B5547E-5AF9-4D51-875D-AFBD7BAAC32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64D225-423D-4D4D-8179-460E2D3931F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6F29CE-9D92-491A-B5E4-D381F326B0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AEE9-13BB-4121-8344-829FBB206C5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C6B955-BFEB-4327-9BFE-6279B5CC117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F0F801-CE28-44CF-BEB4-91747DC08CA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6FD104-7135-44E4-B11B-3CCBE4F6BB5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2D1423-86AC-467E-9DD9-DA5B90DECED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38BA6A-3BE6-4A32-AFC0-A9A71A1F929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B43229-4031-45AE-83F5-07F30ABFEF0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3E2767-302C-4712-9280-EAFFFE9663C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2326A4-BABE-48FB-BA73-8E06DC78281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9379E7-4C0D-4482-A90A-4BB01690A01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7997AE-4D55-4C03-A72F-B0E1344890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53C65-236B-42D7-8345-5E23B25B176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F9D12A-E3B5-4D1F-B820-DFFD354F095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12EA17-8623-41F4-B3ED-6BB81BBD872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47E891-D57E-4B36-86F0-11B1298CE49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FB96B1-C2E5-460A-8983-6A4913D0199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001265-8C90-48AF-937F-F651A3EA8EF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1535EE-23D0-4524-8652-E0EA7F26B67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42DC83-C74E-4DDB-98A3-E0F4A4F1109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55012C-EC62-4AD6-BD77-74827012811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4D9ED3-0B3C-40A2-9A99-4A826056E7D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3E74AC-9E00-4E3C-9D92-96D514CF36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8424D-650D-4D18-BA65-B28CCE6FEF5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89FF5D-4CC5-4FAE-AE68-F55982BD145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E88F2-99B5-46F7-873F-47718D76021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D4691-DA60-4389-8825-9FF0DD6C2EA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F9AF8-8E82-4ECA-B036-E60CEA1C235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09AD3-C3E0-4D35-8EF3-008FAC87FCC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00E83-AEC4-4B9F-84EC-769B1760005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33A87-700A-4E46-8879-24CEB07E9F0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8853C-5C8A-431C-A3A1-9385CA41349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3CCFE-CAD0-4F01-B1AD-F45E18F7EF0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F7853-03FC-4C2F-84E6-7659E8AA159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3E8DE-D9AD-4ABD-9B58-0C94103E06B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69CA8-C32F-4D0C-8F46-F389B98E9FA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76621-F465-4EF3-B2A5-E136AFB68AB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ADFDC5-997B-49D0-9D6E-4CEC38BE8CC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085512-D1B6-4745-B94B-E3D7A98B76E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045F2C-B787-4A34-85CF-E622BCD07FE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7FB234-7BED-43F5-93A0-61865D05160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FA9E53-CECE-44DB-9B72-66272D398A4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31F2CE-418B-465F-A8B0-5777B9B2CFC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833572-AAD5-4C87-9252-0AC009CC16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4BD189-A339-4EB6-9E8B-28A9D02C53A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6020A2-5C6A-4E8E-A8E0-D22704163E9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BC2B3F-74E5-4D95-A7F8-4824BA719DB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336D38-A8E4-489A-9D32-5CC29A4B326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ACAB0C-9D9C-4F96-BE8D-17B1067E7B0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BDBE8A-040A-4450-A8C9-A38F45884D0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C025EF-548E-4A92-BBC9-A72DA4092B7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9E723B-3966-4241-BAD1-22702288571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96D69D-4311-45F5-81F8-3E407BCBB02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45132D-601A-478D-B2A3-8A282B6806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0F43CF-137E-4845-BE3D-CC2543C283F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DA186E-831D-4F16-89EA-438C0C258CE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E1892E-7136-43EA-A78B-15501CB419E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7E6D03-9C17-410C-A16F-8AE21FD1D5F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D593AF-49F8-47BB-8A74-97C040666D9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9AAED0-60BC-497A-A393-693EC8D396D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392599-A1F7-406E-B14B-8EC7D1E632D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13F07-A256-44E3-B258-5648F25697A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76C63-E3C0-460B-9194-21E20F9911B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D4D07-E080-48F8-ABB8-2A8088DD54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B1860-903D-4CFA-9AE1-A9BAE0E47FE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1D9F6-AA54-4478-90D2-D4DDC0A2EA7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2A833-CF9E-4DAF-9300-9EC4EE92E80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896CF-3616-49A4-A5F2-C17126C6FD7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8130F-A4F6-4DE5-9049-1801AFBD59E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E324C-E729-4B6F-8896-49F45A15608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479EC-6F61-46C0-9D25-4CE2C083242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D0FEB-8611-4A55-93D8-08C6B974FBF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8B01F-517B-4943-BB7B-A2D7C420A51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900DD4-6282-42D2-9DB9-6745FFD6E3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92E465-75D8-4DE0-9151-F4C02302AC5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2C1C3F-B63D-45C1-A61E-C4DA89CA43C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90DA21-AFE7-4AF7-8CEB-A43BDFBB08F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B99378-6500-4C9D-87FA-B02F4A8B194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FE747A-5E88-4F48-989E-3B66DD1D4DB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4EB309-E33D-47C0-957D-D27B85A04FB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EE2C82-D9BD-4BC5-A96E-058F001A8C9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D673C0-ABCB-419E-9892-A363FE4715A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FA2709-DB52-4FDA-A37F-8E10306A675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A19582-E9B6-47E4-BF35-8583FFB8A6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CF1B78-8991-4B55-8402-6DE0BCBFD56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26DAAC-6BC8-4CE5-80CF-42BE5B1BF7D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CCAF3A-9F1B-45F6-9578-33E41FFCF2A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05A521-CCCC-4A1B-B02F-7AE2533D8B9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DCABBD-BAD7-4C73-B4D2-B6771CB2B59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7146B8-6A50-4B74-A2CB-DC4524E4ACA3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A5E64A-6DA0-4651-A563-289BDF226584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EF778D-E3E4-4665-9C7F-1E5B6CFC710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9028F9-3038-4A9A-B478-F548CECEDD9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1E2D36-CAB5-47FC-869D-960C495A17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69CD3C-7177-46E5-AC14-EEC2ECA6A29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B0EABF-DC8F-435B-B348-7E7127347F5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866E1B-3C6F-48CC-B750-FD9E2FCDADAE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C469D-5078-4E6B-BDD8-1E06D979067E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034CA-33D1-403E-B3F7-0367E706C9FE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CE016-A796-4AA6-8C41-DB0A7804C574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82374-E5D0-4A1A-BDEA-8DECF6C245E4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760E8-8275-4AD6-8B3C-217A6AB5A282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CBC4B-6B1A-4DAD-AE07-6A8FB2A49A16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42495-0D60-4800-8300-F64AAC9390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BBC70-DACE-4D2F-889A-B0E3E54E1F0C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AB3B0-FDBD-480B-BF1C-3AF53E3B8ED8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88DFC-7680-4E8D-B6DD-93E7BAEBEECD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AD42B-26EB-4AEB-96B6-53995D9384C1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0A4CA-06C6-40B4-A58A-67661254FB1C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6BF18-CC45-4F04-84A9-AEA68E3A582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F22E9-3315-44D3-931E-011C9C0103D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2A1C4-E9A0-43BB-8B2E-D412F9C21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EC4E7-AB90-4143-ADBF-DC11D554F7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61B9D-335A-4C36-A3A2-9D22BB6DBD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A3D15-7321-4D2F-A35F-4609FA60633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CE2EF-D174-46DA-91DE-A9714EBA6F1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346B6-4664-4C76-A067-4F0868586C7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4CAB7-510B-43E9-8CE2-CA6C57B1771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53BC1-3FD8-42F8-A9CD-E8145DF225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F475F-39E2-4668-A2E2-03DEF61413D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4323B-065F-458C-A6B0-7CE90E23E7D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DEBD-5B3B-4519-8878-A07A246AA1F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739D-DDB2-4B15-AA31-3D51A116FE3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4122-DDB7-4946-9A9A-1FF1E04449E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257C-5D87-4F5A-8476-02786A4C688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D049-EFE0-4E07-87FD-AA8488818F3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EC58-2759-48AD-8F35-517CEE6F430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6B1B-628D-4F54-AB80-F88891531E3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A68F-C5AD-434F-AD92-C3CA936CFCC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BB69-C3AA-431F-AD72-4CE6BD3C8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6165-9FA4-4792-BF10-F5066C63990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9834-FC1A-4810-A210-FDF3DD375E7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E67B-23D8-4E2E-A214-E3904F03365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6B08F-02E6-4E1F-B75E-F87C714FEB5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27310-F9CC-4CF3-BC93-65D0EC5C8D5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F5B07-C7B5-4723-83A4-2B53C69A2E8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7667A-2091-4F76-846C-5B8EB4057C7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2CFA5-0B74-4994-BD9D-38CE56F7410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924E6-0777-4777-B6B9-08B95CDA12D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52819-23FB-4B2B-A7BB-9AC5A24BC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81F9B-A8E4-4813-9C33-45A980293D7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E31E0-54DE-4D77-9630-464E671630E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70456-4470-4E0D-B8DD-002B1BE12CB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7A6C2-FEC9-4611-9ACF-DAE0404A2C9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F66C9-C189-4B09-9DBD-4BD8EA8F8EA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EDF88-4E56-4F15-B64E-7D7E5CE761B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56D5B-6445-4B34-BDD1-5CD4DADAC3F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729D8-CEB9-4408-A553-3DEC463C668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35C5B-3E46-4EB0-B109-5C6AC9ABF34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5A607-6B03-4507-AC51-823BE4C42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481BC-0E8C-4623-875C-F101D9E0792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FE071-DEE8-40D9-907A-179E0928813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050F1-2DC3-48F4-B553-3F2AA987854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51D93-0081-4FFA-BCE0-1CCBD1C0873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F5707-B33E-4584-9AAC-93CE90796E5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44707-4108-410B-B4BE-10E96C89C75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D6A5F-F96F-4DEF-A3FB-425D084F81D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E0AF-E101-4725-A270-3BD88B5E6C2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FFF4-DF1E-482F-A883-AA360B88F80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CAAB-704E-49D4-97FD-C686BB146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8BEB-CCA5-4524-BB50-F5CB2042855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AD60-0D1E-4C58-BCF2-C69F7B17535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2561-04E0-4180-BE21-47D67DFEE8B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0F88-0758-425A-9289-4EF033C45A3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9271-147C-4582-91FD-706C8B53E77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9FB6-4B8E-48ED-8E9F-2FFF0603DF3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BC6D-1A07-473A-8B7B-0419A393239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7816-9EA9-4560-A410-C9D74026E7A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CA61-88DB-49AB-9F2A-91AABF18640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1D3A-81F3-4B9E-965D-7972F05354C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3CC3-FA9B-480F-B3B7-6C3CB942467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7451-7DF4-4C91-90AF-7BF37B8BAA8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8934-6251-49EB-BC11-785384FB439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78AC-1056-4780-B9E4-6ECA51DA92A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B377-E84C-43DF-902F-D2CEE34CF01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4ACC-D333-4767-AFCB-990A2CA01CC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7592-7D13-437E-B175-EE3600C06DF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692D-608D-49AB-9400-6D8125FAC13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8B9B-2900-46E2-85AF-57AC4DC642F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8297-3C9D-4D12-A931-061952CDC78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8BBE-B348-42C6-A325-983FD70D58A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FDEA-770F-4F31-939D-3CA66B2050A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915E-9647-4BCC-8BC6-C41EE1E74E8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DCF2-E9BF-4399-BCF8-B7D57703BE6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Calibri"/>
              </a:rPr>
              <a:t>Sincelej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Calibri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Bogotá D.C., Diciembre d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Text Box 3"/>
          <p:cNvSpPr/>
          <p:nvPr/>
        </p:nvSpPr>
        <p:spPr>
          <a:xfrm>
            <a:off x="1238400" y="47628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5 CuadroTexto"/>
          <p:cNvSpPr/>
          <p:nvPr/>
        </p:nvSpPr>
        <p:spPr>
          <a:xfrm>
            <a:off x="672840" y="5300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0" y="5516640"/>
            <a:ext cx="925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;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2" name="1 Imagen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13592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 Box 3"/>
          <p:cNvSpPr/>
          <p:nvPr/>
        </p:nvSpPr>
        <p:spPr>
          <a:xfrm>
            <a:off x="1641600" y="32544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 Box 4"/>
          <p:cNvSpPr/>
          <p:nvPr/>
        </p:nvSpPr>
        <p:spPr>
          <a:xfrm>
            <a:off x="382680" y="545796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5 CuadroTexto"/>
          <p:cNvSpPr/>
          <p:nvPr/>
        </p:nvSpPr>
        <p:spPr>
          <a:xfrm>
            <a:off x="891360" y="525456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7" name="1 Imagen" descr=""/>
          <p:cNvPicPr/>
          <p:nvPr/>
        </p:nvPicPr>
        <p:blipFill>
          <a:blip r:embed="rId1"/>
          <a:stretch/>
        </p:blipFill>
        <p:spPr>
          <a:xfrm>
            <a:off x="1150920" y="1484280"/>
            <a:ext cx="68421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9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00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–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Text Box 3"/>
          <p:cNvSpPr/>
          <p:nvPr/>
        </p:nvSpPr>
        <p:spPr>
          <a:xfrm>
            <a:off x="1289160" y="54288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5 CuadroTexto"/>
          <p:cNvSpPr/>
          <p:nvPr/>
        </p:nvSpPr>
        <p:spPr>
          <a:xfrm>
            <a:off x="617400" y="5229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 Box 4"/>
          <p:cNvSpPr/>
          <p:nvPr/>
        </p:nvSpPr>
        <p:spPr>
          <a:xfrm>
            <a:off x="-9360" y="5487840"/>
            <a:ext cx="9144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Otras Posiciones º :  Obrero, empleado del gobierno; Empleado doméstico; Patrón o empleador, Trabajador familiar sin remuneración; Trabajador sin remuneración en empresas de otros hogares; Jornalero o Peón  y la categoría Otr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5" name="1 Imagen" descr=""/>
          <p:cNvPicPr/>
          <p:nvPr/>
        </p:nvPicPr>
        <p:blipFill>
          <a:blip r:embed="rId1"/>
          <a:stretch/>
        </p:blipFill>
        <p:spPr>
          <a:xfrm>
            <a:off x="1089000" y="1700280"/>
            <a:ext cx="70707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3"/>
          <p:cNvSpPr/>
          <p:nvPr/>
        </p:nvSpPr>
        <p:spPr>
          <a:xfrm>
            <a:off x="1763640" y="61740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8 CuadroTexto"/>
          <p:cNvSpPr/>
          <p:nvPr/>
        </p:nvSpPr>
        <p:spPr>
          <a:xfrm>
            <a:off x="1053360" y="523404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4"/>
          <p:cNvSpPr/>
          <p:nvPr/>
        </p:nvSpPr>
        <p:spPr>
          <a:xfrm>
            <a:off x="71280" y="5445000"/>
            <a:ext cx="8748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Otras Posiciones º :  Obrero, empleado del gobierno; Empleado doméstico; Patrón o empleador, Trabajador familiar sin remuneración; Trabajador sin remuneración en empresas de otros hogares; Jornalero o Peón  y  la categoría Otr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1" name="1 Imagen" descr=""/>
          <p:cNvPicPr/>
          <p:nvPr/>
        </p:nvPicPr>
        <p:blipFill>
          <a:blip r:embed="rId1"/>
          <a:stretch/>
        </p:blipFill>
        <p:spPr>
          <a:xfrm>
            <a:off x="1514520" y="1785960"/>
            <a:ext cx="697536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–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1133640" y="66816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5 CuadroTexto"/>
          <p:cNvSpPr/>
          <p:nvPr/>
        </p:nvSpPr>
        <p:spPr>
          <a:xfrm>
            <a:off x="545760" y="5157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Text Box 4"/>
          <p:cNvSpPr/>
          <p:nvPr/>
        </p:nvSpPr>
        <p:spPr>
          <a:xfrm>
            <a:off x="444600" y="5445000"/>
            <a:ext cx="85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 °: La categoría “otros” incluye: incapacitado permanente para trabajar, rentista, pensionado, jubilado, personas que no les 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0" name="1 Imagen" descr=""/>
          <p:cNvPicPr/>
          <p:nvPr/>
        </p:nvPicPr>
        <p:blipFill>
          <a:blip r:embed="rId1"/>
          <a:stretch/>
        </p:blipFill>
        <p:spPr>
          <a:xfrm>
            <a:off x="1436760" y="1628640"/>
            <a:ext cx="630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5 CuadroTexto"/>
          <p:cNvSpPr/>
          <p:nvPr/>
        </p:nvSpPr>
        <p:spPr>
          <a:xfrm>
            <a:off x="545760" y="54133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1133640" y="620640"/>
            <a:ext cx="687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Sincel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gosto – Octubre </a:t>
            </a:r>
            <a:r>
              <a:rPr b="1" lang="es-CO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(2014 – 201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1 Imagen" descr=""/>
          <p:cNvPicPr/>
          <p:nvPr/>
        </p:nvPicPr>
        <p:blipFill>
          <a:blip r:embed="rId1"/>
          <a:stretch/>
        </p:blipFill>
        <p:spPr>
          <a:xfrm>
            <a:off x="1917720" y="2143080"/>
            <a:ext cx="530532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Calibri"/>
                <a:ea typeface="Calibri"/>
              </a:rPr>
              <a:t>Sincel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2 Imagen" descr=""/>
          <p:cNvPicPr/>
          <p:nvPr/>
        </p:nvPicPr>
        <p:blipFill>
          <a:blip r:embed="rId1"/>
          <a:stretch/>
        </p:blipFill>
        <p:spPr>
          <a:xfrm>
            <a:off x="1547640" y="1689120"/>
            <a:ext cx="5904000" cy="2027160"/>
          </a:xfrm>
          <a:prstGeom prst="rect">
            <a:avLst/>
          </a:prstGeom>
          <a:ln w="0">
            <a:noFill/>
          </a:ln>
        </p:spPr>
      </p:pic>
      <p:pic>
        <p:nvPicPr>
          <p:cNvPr id="1327" name="1 Imagen" descr=""/>
          <p:cNvPicPr/>
          <p:nvPr/>
        </p:nvPicPr>
        <p:blipFill>
          <a:blip r:embed="rId2"/>
          <a:stretch/>
        </p:blipFill>
        <p:spPr>
          <a:xfrm>
            <a:off x="1724040" y="4008600"/>
            <a:ext cx="56293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1 CuadroTexto"/>
          <p:cNvSpPr/>
          <p:nvPr/>
        </p:nvSpPr>
        <p:spPr>
          <a:xfrm>
            <a:off x="684360" y="333360"/>
            <a:ext cx="784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Suc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0" name="1 Imagen" descr=""/>
          <p:cNvPicPr/>
          <p:nvPr/>
        </p:nvPicPr>
        <p:blipFill>
          <a:blip r:embed="rId1"/>
          <a:stretch/>
        </p:blipFill>
        <p:spPr>
          <a:xfrm>
            <a:off x="700200" y="1700280"/>
            <a:ext cx="75819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–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Sincelejo</a:t>
            </a:r>
            <a:r>
              <a:rPr b="1" lang="es-ES" sz="14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5 CuadroTexto"/>
          <p:cNvSpPr/>
          <p:nvPr/>
        </p:nvSpPr>
        <p:spPr>
          <a:xfrm>
            <a:off x="1044360" y="4822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4" name="1 Imagen" descr=""/>
          <p:cNvPicPr/>
          <p:nvPr/>
        </p:nvPicPr>
        <p:blipFill>
          <a:blip r:embed="rId1"/>
          <a:stretch/>
        </p:blipFill>
        <p:spPr>
          <a:xfrm>
            <a:off x="993600" y="1844640"/>
            <a:ext cx="7624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139680" y="2408400"/>
            <a:ext cx="273672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gosto – Octubre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8 CuadroTexto"/>
          <p:cNvSpPr/>
          <p:nvPr/>
        </p:nvSpPr>
        <p:spPr>
          <a:xfrm>
            <a:off x="2841480" y="5937120"/>
            <a:ext cx="56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(+) (-): Aumento o disminución de la TD de cada ciudad frente al mismo trimestre móvil del año anterio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3 Rectángulo"/>
          <p:cNvSpPr/>
          <p:nvPr/>
        </p:nvSpPr>
        <p:spPr>
          <a:xfrm>
            <a:off x="3059280" y="4205160"/>
            <a:ext cx="5616360" cy="2257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9" name="1 Imagen" descr=""/>
          <p:cNvPicPr/>
          <p:nvPr/>
        </p:nvPicPr>
        <p:blipFill>
          <a:blip r:embed="rId1"/>
          <a:stretch/>
        </p:blipFill>
        <p:spPr>
          <a:xfrm>
            <a:off x="3132000" y="333360"/>
            <a:ext cx="5543640" cy="5397480"/>
          </a:xfrm>
          <a:prstGeom prst="rect">
            <a:avLst/>
          </a:prstGeom>
          <a:ln w="0">
            <a:noFill/>
          </a:ln>
        </p:spPr>
      </p:pic>
      <p:sp>
        <p:nvSpPr>
          <p:cNvPr id="1270" name="1 Rectángulo"/>
          <p:cNvSpPr/>
          <p:nvPr/>
        </p:nvSpPr>
        <p:spPr>
          <a:xfrm>
            <a:off x="2832120" y="58294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000000"/>
                </a:solidFill>
                <a:latin typeface="Arial"/>
                <a:ea typeface="Calibri"/>
              </a:rPr>
              <a:t>Fuente: DANE - Gran Encuesta Integrada de Hogares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1 Rectángulo"/>
          <p:cNvSpPr/>
          <p:nvPr/>
        </p:nvSpPr>
        <p:spPr>
          <a:xfrm>
            <a:off x="384120" y="4883040"/>
            <a:ext cx="2232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* El total de las 23 ciudades no incluye San Andrés por tener una distribución de la muestra diferente. Los resultados presentados para San Andrés corresponden al período mayo -octubre 2015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Text Box 3"/>
          <p:cNvSpPr/>
          <p:nvPr/>
        </p:nvSpPr>
        <p:spPr>
          <a:xfrm>
            <a:off x="1403280" y="404640"/>
            <a:ext cx="64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Sincel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gosto – Octubre (2009 – 201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758520" y="54849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1025640" y="1628640"/>
            <a:ext cx="7002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Text Box 3"/>
          <p:cNvSpPr/>
          <p:nvPr/>
        </p:nvSpPr>
        <p:spPr>
          <a:xfrm>
            <a:off x="992160" y="549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Sincel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1-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5 CuadroTexto"/>
          <p:cNvSpPr/>
          <p:nvPr/>
        </p:nvSpPr>
        <p:spPr>
          <a:xfrm>
            <a:off x="906120" y="5516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9" name="1 Imagen" descr=""/>
          <p:cNvPicPr/>
          <p:nvPr/>
        </p:nvPicPr>
        <p:blipFill>
          <a:blip r:embed="rId1"/>
          <a:stretch/>
        </p:blipFill>
        <p:spPr>
          <a:xfrm>
            <a:off x="1593720" y="1765440"/>
            <a:ext cx="595332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angle 4"/>
          <p:cNvSpPr/>
          <p:nvPr/>
        </p:nvSpPr>
        <p:spPr>
          <a:xfrm>
            <a:off x="1908000" y="620640"/>
            <a:ext cx="4896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Población ocupada, desocupada e inactiva </a:t>
            </a:r>
            <a:br>
              <a:rPr sz="2000"/>
            </a:b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Sincel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gosto – Octubre (2014 – 2015)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1" name="1 Imagen" descr=""/>
          <p:cNvPicPr/>
          <p:nvPr/>
        </p:nvPicPr>
        <p:blipFill>
          <a:blip r:embed="rId1"/>
          <a:stretch/>
        </p:blipFill>
        <p:spPr>
          <a:xfrm>
            <a:off x="111240" y="2349360"/>
            <a:ext cx="89168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6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7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–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Daniel Gerardo Gil Sanchez</cp:lastModifiedBy>
  <cp:lastPrinted>2015-04-14T14:37:37Z</cp:lastPrinted>
  <dcterms:modified xsi:type="dcterms:W3CDTF">2015-12-03T21:08:27Z</dcterms:modified>
  <cp:revision>921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